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DD9-CA0B-48D5-9614-F3BC766D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413-0A24-448B-8524-6D344B22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2F2-FF0A-4D94-BB8E-74AD3FB3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DE5-0074-467C-8109-365048D9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04E0-E0F6-41BE-9CED-BFF20038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BAF5-2F5E-4F04-A6AE-D42821B0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35C3-5D53-44D3-9E42-D42DC864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97A1-4BE8-4B89-B76D-DFDA73A0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72C4-F3B6-4020-8FF6-6139F7DE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D537-51BB-47B3-B34B-A0D9F52D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2D47-728D-4A86-A63D-D62B1C1E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3594-A462-425A-B42F-0FD59BEE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0647-B739-4B2B-9CE2-5E38259A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FB5D-3E0C-433A-B1FE-2BFB55C2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1070-4698-4545-959A-EBAF21DD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FC6E-A12B-49B5-B0AD-39B9B3F7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9BC3-A40D-42A5-B990-00E6E5DA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40F-8034-441E-A8FE-23ED7D58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E0E-ADE1-48CD-9327-043936A4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977-9761-44BE-B1D9-BB1894B9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CA5-F8BD-4036-8B99-6A790D81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F32-249D-4F7B-B929-FF41D9B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1FB-6475-4846-B472-79935F9A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1F51-E6C0-42B7-A28F-8A076271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DF66-0F66-4168-8B83-4E002B7B1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FBA1-C872-4F30-AB7F-24989482F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5040" y="1752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91600" y="1752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89200" y="175248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c. V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37120" y="17524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c. V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492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3129120" y="3200400"/>
            <a:ext cx="32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: All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925280" y="3168720"/>
            <a:ext cx="657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direct Refernce to something 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one generally famili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830960" y="297180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057400" y="29718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tain is to ________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nounce is to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1919520" y="3168720"/>
            <a:ext cx="570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intain is t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inten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nounce is t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ronunc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918440" y="3168720"/>
            <a:ext cx="562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 __ instead of could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 __ instead of should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 __ instead of mus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903320" y="3168720"/>
            <a:ext cx="26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uld ha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hould hav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ust ha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7"/>
          <p:cNvSpPr/>
          <p:nvPr/>
        </p:nvSpPr>
        <p:spPr>
          <a:xfrm>
            <a:off x="1981080" y="2895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woman is to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man is to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828800" y="312408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Fiancé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Fian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914840" y="3168720"/>
            <a:ext cx="556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s Further is to 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rther is to 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894680" y="3168720"/>
            <a:ext cx="4405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nything Addit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Dist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2666880" y="190512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fine: Statione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909080" y="3168720"/>
            <a:ext cx="43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s lead is to pres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d is to 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917360" y="3168720"/>
            <a:ext cx="50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of the word 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s anything addit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390680" y="3168720"/>
            <a:ext cx="26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-u-r-t-h-e-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912320" y="3168720"/>
            <a:ext cx="41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of the wo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 refers to dist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897560" y="316872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-a-r-t-h-e-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1915560" y="3168720"/>
            <a:ext cx="47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of the word th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s a false im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1903320" y="316872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-l-l-u-s-i-o-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895760" y="3168720"/>
            <a:ext cx="47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of the word th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s writing mater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1903680" y="316872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-t-a-t-i-o-n-e-r-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908000" y="316872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iting mater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913400" y="3168720"/>
            <a:ext cx="427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of the wo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 means someth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 is not restric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1899720" y="316872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-o-o-s-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1911960" y="3168720"/>
            <a:ext cx="65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merican system of quo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ks works in 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1919520" y="3168720"/>
            <a:ext cx="708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i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) She said, “ Flamingoes are pink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906200" y="3168720"/>
            <a:ext cx="31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id = _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yed = 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1910880" y="3168720"/>
            <a:ext cx="373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ettled Financi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Uncoi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919160" y="3168720"/>
            <a:ext cx="528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the defintion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ample of Split infini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1905480" y="316872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eparated from its ver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to instantly be kill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1918080" y="3168720"/>
            <a:ext cx="53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maintain a verb or a 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1897200" y="31687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R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10160" y="3168720"/>
            <a:ext cx="36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: Stationar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1914840" y="3168720"/>
            <a:ext cx="445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 we Capital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title of a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946160" y="316872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e title takes the place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ersons name or is part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i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913040" y="316872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make nou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ding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–ful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ra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1904760" y="316872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adding a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1909440" y="3168720"/>
            <a:ext cx="43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and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des of March?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919520" y="3168720"/>
            <a:ext cx="544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ch 15 and it’s the da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be cautious because of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ath of Caes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1906200" y="3168720"/>
            <a:ext cx="548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ubjunctive mood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6"/>
          <p:cNvSpPr/>
          <p:nvPr/>
        </p:nvSpPr>
        <p:spPr>
          <a:xfrm>
            <a:off x="1905120" y="25909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Express wishes and signal hypothetical situ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910880" y="316872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y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1922040" y="3168720"/>
            <a:ext cx="61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empt (Us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y t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no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y an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908720" y="3168720"/>
            <a:ext cx="35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fixed 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1925640" y="3168720"/>
            <a:ext cx="63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 quotation mark indic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916640" y="3168720"/>
            <a:ext cx="694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act words of the speaker or wri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03680" y="316872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: L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897560" y="31687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l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906560" y="316872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: ill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396440" y="312408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se impression or deceptive app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15</cp:lastModifiedBy>
  <dcterms:modified xsi:type="dcterms:W3CDTF">2010-05-18T16:20:30Z</dcterms:modified>
  <cp:revision>21</cp:revision>
  <dc:subject/>
  <dc:title>Jeopardy</dc:title>
</cp:coreProperties>
</file>